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0D3-9FA3-4C3C-8A64-10A8700A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C97-AFE8-4748-9745-D46FD18B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3F0-5D11-4801-906E-B0260518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DA7-B5CD-46DC-B7F2-A0EB31B7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A96B-CDB4-4176-A587-2FAA40C8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AE35-2890-46E1-BF82-4FE0827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DD37-E5E9-4532-971D-99BC3EA3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F636-832E-4022-B2BD-598E55CF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832-114B-424F-9596-F776E7F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5625-2A8D-4983-959C-980C9270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6B17-D727-4003-8C89-D51A51C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72A-A427-4F56-B9E8-F01F91E3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65D7-5F54-49B7-AB2E-AEE9384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4DA0-FB46-4987-8D08-B987C680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A203-2A4D-4500-921C-72D231D8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768E-3DAB-4785-A7E9-D5352EA6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B9C1-B0E5-4AAD-863D-B245A171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978-EED7-4676-B346-09ECBD01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4EA-886B-440F-AA08-CAEBF550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931-4643-4576-A372-25B80A53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D7A-D873-472C-91B5-F93C7D1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2E3-503B-4FCF-9D21-BF749F43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63C-D01B-4EEA-B60E-B4A00B40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173-55F7-482D-BB81-27E6F3E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362D-D238-4352-B9B0-75824A033CC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F976-E17E-4DE8-87B1-DAA1D2EE9D7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920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124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9040" y="2104920"/>
            <a:ext cx="34632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Skeletal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me term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aphy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haft of a bone that surrounds a central marrow cavity containing bone m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phys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portion at the end of the diaphysis covered by articular carti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me term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ct B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olid, forms the dia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ongy b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bony rods separated by spaces, fills the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me term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iost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the bone from surround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ingles with tendons and lig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route for circulation and 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doste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the marrow cavity and other internal su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during bone growth and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actic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d pages 2 &amp; 3 of Activity #1 VERY careful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r the picture on page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istology of b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icroscopic features in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ct and spongy bone both contai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cy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one cells) in small pockets call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acuna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unae are found between narrow sheets of calcified matrix call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amella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alicul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diate through the matrix connecting the lacunae to blood vesse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act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functional unit is called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aversian syste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in the osteon, osteocytes are arranged in concentric circles around a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ntral ca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aversian ca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at contains 1 or more blood vesse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erforating can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ink the blood vessels of the central canal to the periosteum or the marrow cav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1160"/>
            <a:ext cx="8534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91320" y="762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Haversian Can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124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Lacuna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5257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analicu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keleton supports the weight of the bo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trong as reinforced concrete, but considerably l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remolded to fit the changing metabolic needs of the body, unlike 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keletal system includes bones, cartilage, joints, ligaments and other connective t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pongy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 Oste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lamellae form rods called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becula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hat are heavily branch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connects to the marrow to allow diffusion of nutrients and was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 is compact and spongy bone foun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ct bone forms the surface of bone everywhere except in joint capsules, where articular cartilage protects the ends of the b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ongy bone is found within the epiphys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does that mea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ct bone is found where stress comes from a limited range of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in limb bones, the osteons are parallel to the long axis to prevent the bone from bending when large stresses are applied to either 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mall force on the SIDE of the shaft can break the bone easily thoug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does that mea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ongy bone is found where forces come from a variety of directions or areas that are not heavily str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makes bones lighter and easier to mo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so, the trabeculae of the spongy bone helps to protect the red marr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ells in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c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e bon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normal bone structure by recycling Ca salts and assisting in re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cla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ant cells with 50+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matrix to release nutrients with acids and enzymes to regulate concentrations within body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ells in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steobla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responsible for production of new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bone growth by producing new matrix and deposition of Ca s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y given moment osteoclasts are working against oste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steoblast is completely surrounded by calcified matrix it differentiates into an osteoc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ne Formation and Grow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uring development all of the bones are made of cartilage and connective tiss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ssification (w/ calcification) is the replacement of other tissues with b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2 types of Ossifi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ramembrano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 develops deep within sheets of membrane or 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dochondr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 replaces existing carti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ramembranous Ossifi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at an ossification c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teoblasts differentiate from connective tissue after calcification of the matrix occu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bone branches outward and when the osteoblasts get surrounded, they change into osteoc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at bones of the skull, mandible and clavicles form thi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 Primary Functions of the Skeletal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framework for the attachment of soft tissues and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 salts that help maintain normal concentrations of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ody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 reserves within yellow m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ndochondral Ossifi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URE TO LOOK AT PAGE 140 IN YOUR READING FOR THE PROCESS OF Endochondral Ossific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quirements for Bone Grow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tami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normal Ca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obtained in diet or in epidermal tissue via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neys convert it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ci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hormone that stimulates the absorption of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digestive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can ca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cke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nes are very flexible due to lack of calcium salts; individuals can be bowle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quirements for Bone Grow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tamin A and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Vitamin C can cau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curv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or collagen development, liver spots, bleeding from mucous membran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 sure to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pages 142-3 about Bone remodeling and homeostas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 Primary Functions of the Skeletal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ood Cell Produ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C, WBC and other blood elements are made within red marrow, which fills the internal areas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s soft organs: Ribs around heart and lungs, pelvis cradles digestive and reproductive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 Primary Functions of the Skeletal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 work as levers to change the magnitude and direction of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ructure of Bo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sseous tiss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sition of Calcium 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is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ther 1/3 is col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of the tissue is oste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4 general shapes of b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ong Bon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than wide; ex. Femur and Hum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ort Bon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equal proportions; ex. Carpals and Ta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4 general shapes of b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at B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 and broad; ex. Parietal bones, ribs, scapul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rregular B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it into any other category; ex. vertebr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388620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866920" y="2895480"/>
            <a:ext cx="1600560" cy="381240"/>
            <a:chOff x="5866920" y="2895480"/>
            <a:chExt cx="1600560" cy="381240"/>
          </a:xfrm>
        </p:grpSpPr>
        <p:sp>
          <p:nvSpPr>
            <p:cNvPr id="108" name=""/>
            <p:cNvSpPr/>
            <p:nvPr/>
          </p:nvSpPr>
          <p:spPr>
            <a:xfrm>
              <a:off x="6172200" y="2895480"/>
              <a:ext cx="1295280" cy="36828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Diaphysi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866920" y="3276720"/>
              <a:ext cx="129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6920" y="609480"/>
            <a:ext cx="1600560" cy="381240"/>
            <a:chOff x="5866920" y="609480"/>
            <a:chExt cx="1600560" cy="381240"/>
          </a:xfrm>
        </p:grpSpPr>
        <p:sp>
          <p:nvSpPr>
            <p:cNvPr id="111" name=""/>
            <p:cNvSpPr/>
            <p:nvPr/>
          </p:nvSpPr>
          <p:spPr>
            <a:xfrm>
              <a:off x="6172200" y="609480"/>
              <a:ext cx="1295280" cy="36828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Epiphysi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866920" y="990720"/>
              <a:ext cx="129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14640" y="5791320"/>
            <a:ext cx="1600560" cy="380880"/>
            <a:chOff x="5714640" y="5791320"/>
            <a:chExt cx="1600560" cy="380880"/>
          </a:xfrm>
        </p:grpSpPr>
        <p:sp>
          <p:nvSpPr>
            <p:cNvPr id="114" name=""/>
            <p:cNvSpPr/>
            <p:nvPr/>
          </p:nvSpPr>
          <p:spPr>
            <a:xfrm>
              <a:off x="6019920" y="5791320"/>
              <a:ext cx="1295280" cy="368280"/>
            </a:xfrm>
            <a:prstGeom prst="rect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Epiphysi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714640" y="6172200"/>
              <a:ext cx="129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952520" y="1600200"/>
            <a:ext cx="2514960" cy="642600"/>
            <a:chOff x="4952520" y="1600200"/>
            <a:chExt cx="2514960" cy="642600"/>
          </a:xfrm>
        </p:grpSpPr>
        <p:sp>
          <p:nvSpPr>
            <p:cNvPr id="117" name=""/>
            <p:cNvSpPr/>
            <p:nvPr/>
          </p:nvSpPr>
          <p:spPr>
            <a:xfrm>
              <a:off x="6172200" y="1600200"/>
              <a:ext cx="1295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Compact Bon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952520" y="1905120"/>
              <a:ext cx="17528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19320" y="1066680"/>
            <a:ext cx="2895120" cy="1099800"/>
            <a:chOff x="1219320" y="1066680"/>
            <a:chExt cx="2895120" cy="1099800"/>
          </a:xfrm>
        </p:grpSpPr>
        <p:sp>
          <p:nvSpPr>
            <p:cNvPr id="120" name=""/>
            <p:cNvSpPr/>
            <p:nvPr/>
          </p:nvSpPr>
          <p:spPr>
            <a:xfrm>
              <a:off x="1219320" y="1523880"/>
              <a:ext cx="1295280" cy="642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Spongy Bon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057040" y="1066680"/>
              <a:ext cx="2057400" cy="533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029200" y="3505320"/>
            <a:ext cx="2666880" cy="368280"/>
            <a:chOff x="5029200" y="3505320"/>
            <a:chExt cx="2666880" cy="368280"/>
          </a:xfrm>
        </p:grpSpPr>
        <p:sp>
          <p:nvSpPr>
            <p:cNvPr id="123" name=""/>
            <p:cNvSpPr/>
            <p:nvPr/>
          </p:nvSpPr>
          <p:spPr>
            <a:xfrm>
              <a:off x="6248520" y="3505320"/>
              <a:ext cx="1447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Periosteum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029200" y="3809880"/>
              <a:ext cx="1752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2:20:18Z</dcterms:created>
  <dc:creator>Rich South</dc:creator>
  <dc:description/>
  <dc:language>en-US</dc:language>
  <cp:lastModifiedBy>Rich South</cp:lastModifiedBy>
  <dcterms:modified xsi:type="dcterms:W3CDTF">2007-02-21T19:58:45Z</dcterms:modified>
  <cp:revision>11</cp:revision>
  <dc:subject/>
  <dc:title>The Skeletal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